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A64B-A389-425E-9A50-06F5D7FBA2D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2 to 3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427-5E46-457A-A665-A1749143255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read the Easier English versions of the interview, then read the originals and note the differences in vocabulary and sentence struc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645E-9A83-4705-8EFA-2744983F5B9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imings: lead-in/vocabulary: 15 - 30 mins; speaking: 15 - 30 mins; reading: 15 - 30 mins; grammar focus and practice: 15 - 30 mins; writing: 30 – 6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685D-C30D-474C-8EB7-15E2CD0F9A3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don’t know words, feed in: a) demonstration, strike, boycott, march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) support, join in, disperse crowds, water canon, rubber bullets, sack, arrest, imprison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9DE-5E25-400E-A09F-541BC684DB6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oint out countries where they heard about protests and discuss why people were prote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2130-33A3-49CC-95D3-8718B0F11BB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fferent learners can read selected articles in pairs and discuss, or all learners can skim-read all 6 articles, then discuss: who? how? why? for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5407-29E2-44F9-BFAC-CE196250C9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uide learners to discuss the form/structure (and the meaning/function and phonolog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B511-5152-494A-8A27-EAE2C7DA0D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meaning/function, form/structure and phonology (utterance stress – usually on past participles; contractions; pronunciation of “ed” ending of regular past participles et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3192-197B-41A1-A184-F080E29393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their 3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conditional sentences on the board or on flip-chart paper, and then correct any errors in each other’s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45C9-241C-41A9-B958-D5506BB92E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s can be blu-tacked to the wall afterwards for all learners to read and decide: which would be most interesting for people to rea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oups can then correct any errors in the 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6BF3-95CA-485B-9660-4AF5F0B739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614C-CE9F-4A24-97D0-BFB058121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A64-4B10-4C3B-AE45-F4B9736A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63C-9E46-42F8-B65A-E9322E6D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FA6-4AFF-435F-B785-ACFDB110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28B0-0E5F-4F6F-9798-7DC1C46F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122-44DA-4B55-BAED-BC1087CF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FC2-9CD7-4272-A7BC-2D9ECAFC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1C43-38A0-4A26-9361-A9A95619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E58-C906-4A23-B726-0C85B7DB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A00-E31F-482B-B49F-32685238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770-38AE-4A21-946E-B5134837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6B1-F408-4B60-9161-71E84AE3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602F-D6D2-471A-B965-B7CE918788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Photo_story_:_Turkey_has_lost_its_fear" TargetMode="External"/><Relationship Id="rId2" Type="http://schemas.openxmlformats.org/officeDocument/2006/relationships/hyperlink" Target="http://eewiki.newint.org/index.php/Social_media_in_Turkey" TargetMode="External"/><Relationship Id="rId3" Type="http://schemas.openxmlformats.org/officeDocument/2006/relationships/hyperlink" Target="http://eewiki.newint.org/index.php/Rio_communities_come_together_in_protest" TargetMode="External"/><Relationship Id="rId4" Type="http://schemas.openxmlformats.org/officeDocument/2006/relationships/hyperlink" Target="http://eewiki.newint.org/index.php/Egypt:_what_happened_to_democracy,_freedom,_stability%3F" TargetMode="External"/><Relationship Id="rId5" Type="http://schemas.openxmlformats.org/officeDocument/2006/relationships/hyperlink" Target="http://eewiki.newint.org/index.php/Indonesians_won%27t_stop_fighting" TargetMode="External"/><Relationship Id="rId6" Type="http://schemas.openxmlformats.org/officeDocument/2006/relationships/hyperlink" Target="http://eewiki.newint.org/index.php/G8_hunger_summit:_protest_and_prais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601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mework: read the Easier English texts again – then click on the original at the end of each article and read that: compare vocabulary and grammar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3357720"/>
            <a:ext cx="8569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urkey: </a:t>
            </a:r>
            <a:r>
              <a:rPr b="0" lang="en-GB" sz="15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Social_media_in_Turke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razi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Rio_communities_come_together_in_prote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Egypt:_what_happened_to_democracy,_freedom,_stability%3F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donesi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Indonesians_won%27t_stop_fight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UK: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http://eewiki.newint.org/index.php/G8_hunger_summit:_protest_and_prai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sson pla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907560"/>
            <a:ext cx="8435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Vocabular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pea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Read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Gramma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Homework / extens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, we need 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ord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– in groups, list as many words/phrases as possible for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505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people can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hunger str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7960" y="3573000"/>
            <a:ext cx="424476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How other people can respond to prote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g. force-f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ests in the last year: where/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"/>
          <p:cNvPicPr/>
          <p:nvPr/>
        </p:nvPicPr>
        <p:blipFill>
          <a:blip r:embed="rId2"/>
          <a:stretch/>
        </p:blipFill>
        <p:spPr>
          <a:xfrm>
            <a:off x="781200" y="1503360"/>
            <a:ext cx="74898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/think: who? how? 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8362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urke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1"/>
              </a:rPr>
              <a:t>http://eewiki.newint.org/index.php/Photo_story_:_Turkey_has_lost_its_f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2"/>
              </a:rPr>
              <a:t>http://eewiki.newint.org/index.php/Social_media_in_Turk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Brazi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3"/>
              </a:rPr>
              <a:t>http://eewiki.newint.org/index.php/Rio_communities_come_together_in_prot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gyp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4"/>
              </a:rPr>
              <a:t>http://eewiki.newint.org/index.php/Egypt:_what_happened_to_democracy,_freedom,_stability%3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donesia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5"/>
              </a:rPr>
              <a:t>http://eewiki.newint.org/index.php/Indonesians_won%27t_stop_figh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UK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99ff"/>
                </a:solidFill>
                <a:uFillTx/>
                <a:latin typeface="Calibri"/>
                <a:hlinkClick r:id="rId6"/>
              </a:rPr>
              <a:t>http://eewiki.newint.org/index.php/G8_hunger_summit:_protest_and_pra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think about other op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protest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e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, no-one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now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g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to the streets, nothing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ang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f they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hadn’t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one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anything, the government 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ould have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inue</a:t>
            </a: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What’s the gramm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+ past perfect (had/n’t + past participl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If they hadn’t protes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+ past conditional (would/n’t have + past particip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no-one would have know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Is this past, present or future? P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they protest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Did other people know because of the protests? Y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all the protests and make mor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conditional sentences about what happened or what didn’t happe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3068640"/>
            <a:ext cx="82072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urke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azi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reec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dones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ther protests you know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small groups, write an article for a college / school newspap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Protests around the world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e abou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ifferent types of pro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give examples from the articles you r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clude at least 2 3</a:t>
            </a:r>
            <a:r>
              <a:rPr b="1" lang="en-GB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9:06:36Z</dcterms:created>
  <dc:creator>Linda Ruas</dc:creator>
  <dc:description/>
  <dc:language>en-US</dc:language>
  <cp:lastModifiedBy>Linda Ruas</cp:lastModifiedBy>
  <dcterms:modified xsi:type="dcterms:W3CDTF">2013-07-24T20:55:53Z</dcterms:modified>
  <cp:revision>36</cp:revision>
  <dc:subject/>
  <dc:title>People who change the world</dc:title>
</cp:coreProperties>
</file>